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183-AAAA-4C74-9268-CC04B6E7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EAC-D52A-4EC0-A72F-866F8143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A94-E196-4D12-9615-A817E737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F31-A78C-4166-B57B-600815F8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8C8-5DA1-4752-8CD6-01CB3024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96E-1DA9-4D19-A34D-85BC751B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14A-0022-4862-8FB9-D8ADBA06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500-685C-4F59-B068-77C8A371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A7D-5217-420B-9BAE-D3D79BF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128-9B0B-4A56-A91F-F88EC2D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6E3-44FF-4F94-A4A7-F62EEDBC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F56-A782-4757-AC19-0724E5F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238B-2F55-4BC4-8911-1950D500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amlearning.co.uk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rival – until 2:25p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5 mins to answer these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implif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4a + b – 2a – 9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8g x 2) – 3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ltiply out the brack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(m + 4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9(2p – 3q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peration – there are 4 operations… +, –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se Operation – each operation has an inverse (or opposite) ope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and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– are in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÷ are in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inverse operation acts like the undo function on a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solve an equation you have to do the inverse operations in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.g. 3f – 10 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the inverse of subtracting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10 to both si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f – 10 + 10 = 2 +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f =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the inverse of multiply f by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vide both sides by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÷ 3 = 12 ÷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Three – 10m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341960"/>
        </p:xfrm>
        <a:graphic>
          <a:graphicData uri="http://schemas.openxmlformats.org/drawingml/2006/table">
            <a:tbl>
              <a:tblPr/>
              <a:tblGrid>
                <a:gridCol w="2602080"/>
                <a:gridCol w="2884320"/>
                <a:gridCol w="2743200"/>
              </a:tblGrid>
              <a:tr h="675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ve these equations, showing your work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sy (Level 5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 (Level 6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rd (Level 6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a + 1 =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d – 13 = -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3 = 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b – 3 =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e + 20 = 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3 =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= 2c –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6 = 7f +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= 9 +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68360" y="60213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= 4; b = 6; c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6021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 = -13; e = -5; f 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602136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 = 21; k = 45; w =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UST be able solve a simple algebraic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us SHOULD be able to solve algebraic equations involving negative numb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us COULD be able to solve an algebraic equation involving di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four opera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meant by “inverse operation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ould you explain it to someone who didn’t know how to solve an equ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is as an example: 4g + 3 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 to use “inverse operation” in your expla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cess SAM Learning (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samlearning.co.uk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o to KS3 SATS &gt; Maths &gt; Algebra Part 2 &gt; Solving Linear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geb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ving Simple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UST be able to solve a simple algebraic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us SHOULD be able to solve algebraic equations involving negative numb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us COULD be able to solve an algebraic equation involving di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’s lesson will consist of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y One – Loop g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llenge – Can you solve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y Two – How did you solve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y Three – Solving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g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you solve the equa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ere you think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4960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llenge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f I gave you any equation would you know how to solve i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se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 you solve thes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dd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3f – 10 = 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en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5f + 9 = 2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id you solve thes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dd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3f – 10 = 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en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5f + 9 = 2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ctivity Two – 3 m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to the person next to you how you solved your equation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got the answer wrong, explain to your partner what you did and see if they can show you where you went wro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6:15:29Z</dcterms:created>
  <dc:creator>Bruno Reddy</dc:creator>
  <dc:description/>
  <dc:language>en-US</dc:language>
  <cp:lastModifiedBy>Bruno Reddy</cp:lastModifiedBy>
  <dcterms:modified xsi:type="dcterms:W3CDTF">2005-10-08T20:22:05Z</dcterms:modified>
  <cp:revision>7</cp:revision>
  <dc:subject/>
  <dc:title>Arrival</dc:title>
</cp:coreProperties>
</file>